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7389-7E5D-489B-B70A-EC288C505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DA90-377B-4A73-AA98-E9C6432F6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4B0F-CD72-4CC9-9D3B-193AD36AF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AABF-CCC9-4184-A868-92EE8ADEF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1A5E-3750-49EA-972F-571C65BC0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15F8-E052-4054-86EB-6B941CBCA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3FFC-6694-48AE-A306-1405BF17D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8D77-4C36-47EA-8A12-E2446F4F7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9C5E-B7BC-4CA5-921A-B29AACEAD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2359-E4C6-4C31-8ABE-2AD24487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694E-6734-4691-BEAF-A5177585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52D3-AA39-4102-BB02-2E8A567E8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053D0-CCDC-4425-A521-02752A0F699E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50560" y="54900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Physiologie de la diarrhé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859280" y="1268280"/>
            <a:ext cx="4049640" cy="3510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250560" y="549000"/>
            <a:ext cx="4321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’est dans la lumière de l’intestin que se produit l’absorption des nutriments(protides, glucides et lipides) et de l’eau qu’ils contienn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t plus précisément au niveau  des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villosités intestinal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93920" y="2287440"/>
            <a:ext cx="4556160" cy="2436840"/>
          </a:xfrm>
          <a:custGeom>
            <a:avLst/>
            <a:gdLst/>
            <a:ahLst/>
            <a:rect l="l" t="t" r="r" b="b"/>
            <a:pathLst>
              <a:path w="2870" h="1535">
                <a:moveTo>
                  <a:pt x="0" y="1535"/>
                </a:moveTo>
                <a:lnTo>
                  <a:pt x="876" y="1535"/>
                </a:lnTo>
                <a:lnTo>
                  <a:pt x="2870" y="0"/>
                </a:lnTo>
              </a:path>
            </a:pathLst>
          </a:custGeom>
          <a:noFill/>
          <a:ln w="38160">
            <a:solidFill>
              <a:srgbClr val="000080"/>
            </a:solidFill>
            <a:prstDash val="sysDot"/>
            <a:round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3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3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3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50920" y="1557360"/>
            <a:ext cx="4049640" cy="3510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284720" y="475920"/>
            <a:ext cx="4680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s nutriments traversent la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paro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 l’intest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énètrent dans la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circulation sangu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fin d’aller nourrir les différents organes du corps (cœur, cerveau, muscles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59280" y="2852640"/>
            <a:ext cx="4632120" cy="1424160"/>
          </a:xfrm>
          <a:custGeom>
            <a:avLst/>
            <a:gdLst/>
            <a:ahLst/>
            <a:rect l="l" t="t" r="r" b="b"/>
            <a:pathLst>
              <a:path w="2918" h="897">
                <a:moveTo>
                  <a:pt x="2918" y="0"/>
                </a:moveTo>
                <a:lnTo>
                  <a:pt x="860" y="13"/>
                </a:lnTo>
                <a:lnTo>
                  <a:pt x="0" y="897"/>
                </a:lnTo>
              </a:path>
            </a:pathLst>
          </a:custGeom>
          <a:noFill/>
          <a:ln cap="rnd" w="38160">
            <a:solidFill>
              <a:srgbClr val="000080"/>
            </a:solidFill>
            <a:custDash>
              <a:ds d="100000" sp="1000"/>
            </a:custDash>
            <a:round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70200" y="1413000"/>
            <a:ext cx="1803600" cy="865080"/>
          </a:xfrm>
          <a:custGeom>
            <a:avLst/>
            <a:gdLst/>
            <a:ahLst/>
            <a:rect l="l" t="t" r="r" b="b"/>
            <a:pathLst>
              <a:path w="1136" h="545">
                <a:moveTo>
                  <a:pt x="1136" y="0"/>
                </a:moveTo>
                <a:lnTo>
                  <a:pt x="718" y="8"/>
                </a:lnTo>
                <a:lnTo>
                  <a:pt x="8" y="545"/>
                </a:lnTo>
                <a:lnTo>
                  <a:pt x="0" y="545"/>
                </a:lnTo>
              </a:path>
            </a:pathLst>
          </a:custGeom>
          <a:noFill/>
          <a:ln cap="rnd" w="38160">
            <a:solidFill>
              <a:srgbClr val="000080"/>
            </a:solidFill>
            <a:custDash>
              <a:ds d="100000" sp="1000"/>
            </a:custDash>
            <a:round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random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3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3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50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3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3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6500"/>
                            </p:stCondLst>
                            <p:childTnLst>
                              <p:par>
                                <p:cTn id="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3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3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788000" y="2205000"/>
            <a:ext cx="4049640" cy="3510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250560" y="549000"/>
            <a:ext cx="4321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rsque des microbes pénètrent dans l’intestin ils détruisent les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villosités intestinal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’eau et les nutriments ne sont plus absorbé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2349360"/>
            <a:ext cx="6038640" cy="744840"/>
          </a:xfrm>
          <a:custGeom>
            <a:avLst/>
            <a:gdLst/>
            <a:ahLst/>
            <a:rect l="l" t="t" r="r" b="b"/>
            <a:pathLst>
              <a:path w="3804" h="469">
                <a:moveTo>
                  <a:pt x="0" y="0"/>
                </a:moveTo>
                <a:lnTo>
                  <a:pt x="2210" y="3"/>
                </a:lnTo>
                <a:lnTo>
                  <a:pt x="3804" y="469"/>
                </a:lnTo>
              </a:path>
            </a:pathLst>
          </a:custGeom>
          <a:noFill/>
          <a:ln w="38160">
            <a:solidFill>
              <a:srgbClr val="000080"/>
            </a:solidFill>
            <a:prstDash val="sysDot"/>
            <a:round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random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3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3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00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50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3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3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211640" y="549360"/>
            <a:ext cx="46814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s modifications de pression osmotique entre les espaces (intestinal et circulatoire) provoquent une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inversio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s é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1341360"/>
            <a:ext cx="4049640" cy="3510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332000" y="2205000"/>
            <a:ext cx="1655280" cy="936360"/>
            <a:chOff x="1332000" y="2205000"/>
            <a:chExt cx="1655280" cy="936360"/>
          </a:xfrm>
        </p:grpSpPr>
        <p:sp>
          <p:nvSpPr>
            <p:cNvPr id="55" name=""/>
            <p:cNvSpPr/>
            <p:nvPr/>
          </p:nvSpPr>
          <p:spPr>
            <a:xfrm flipH="1">
              <a:off x="2339640" y="2205000"/>
              <a:ext cx="647640" cy="360360"/>
            </a:xfrm>
            <a:prstGeom prst="line">
              <a:avLst/>
            </a:prstGeom>
            <a:ln w="50760">
              <a:solidFill>
                <a:srgbClr val="008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 flipV="1">
              <a:off x="2339640" y="2781000"/>
              <a:ext cx="431640" cy="360360"/>
            </a:xfrm>
            <a:prstGeom prst="line">
              <a:avLst/>
            </a:prstGeom>
            <a:ln w="50760">
              <a:solidFill>
                <a:srgbClr val="008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332000" y="2637000"/>
              <a:ext cx="792000" cy="71280"/>
            </a:xfrm>
            <a:prstGeom prst="line">
              <a:avLst/>
            </a:prstGeom>
            <a:ln w="50760">
              <a:solidFill>
                <a:srgbClr val="008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1476360" y="2349000"/>
            <a:ext cx="1582920" cy="648360"/>
            <a:chOff x="1476360" y="2349000"/>
            <a:chExt cx="1582920" cy="648360"/>
          </a:xfrm>
        </p:grpSpPr>
        <p:sp>
          <p:nvSpPr>
            <p:cNvPr id="59" name=""/>
            <p:cNvSpPr/>
            <p:nvPr/>
          </p:nvSpPr>
          <p:spPr>
            <a:xfrm flipV="1">
              <a:off x="2411280" y="2349000"/>
              <a:ext cx="648000" cy="35892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1476360" y="2491920"/>
              <a:ext cx="574560" cy="7308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556000" y="2781360"/>
              <a:ext cx="215640" cy="2160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15000">
    <p:random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3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3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000"/>
                            </p:stCondLst>
                            <p:childTnLst>
                              <p:par>
                                <p:cTn id="9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000"/>
                            </p:stCondLst>
                            <p:childTnLst>
                              <p:par>
                                <p:cTn id="97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211640" y="549360"/>
            <a:ext cx="46814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’eau est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excrété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 l’intestin provoquant la diarrh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9280" y="1673280"/>
            <a:ext cx="4050000" cy="3510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03280" y="5084640"/>
            <a:ext cx="287280" cy="1440000"/>
          </a:xfrm>
          <a:prstGeom prst="downArrow">
            <a:avLst>
              <a:gd name="adj1" fmla="val 50000"/>
              <a:gd name="adj2" fmla="val 125313"/>
            </a:avLst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56000" y="5013360"/>
            <a:ext cx="287280" cy="1440000"/>
          </a:xfrm>
          <a:prstGeom prst="downArrow">
            <a:avLst>
              <a:gd name="adj1" fmla="val 50000"/>
              <a:gd name="adj2" fmla="val 125313"/>
            </a:avLst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00360" y="3933720"/>
            <a:ext cx="4687920" cy="1668600"/>
          </a:xfrm>
          <a:custGeom>
            <a:avLst/>
            <a:gdLst/>
            <a:ahLst/>
            <a:rect l="l" t="t" r="r" b="b"/>
            <a:pathLst>
              <a:path w="2953" h="1051">
                <a:moveTo>
                  <a:pt x="2953" y="0"/>
                </a:moveTo>
                <a:lnTo>
                  <a:pt x="2043" y="3"/>
                </a:lnTo>
                <a:lnTo>
                  <a:pt x="0" y="1051"/>
                </a:lnTo>
              </a:path>
            </a:pathLst>
          </a:custGeom>
          <a:noFill/>
          <a:ln w="38160">
            <a:solidFill>
              <a:srgbClr val="000080"/>
            </a:solidFill>
            <a:prstDash val="sysDot"/>
            <a:round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79640" y="5013360"/>
            <a:ext cx="287280" cy="1224000"/>
          </a:xfrm>
          <a:prstGeom prst="downArrow">
            <a:avLst>
              <a:gd name="adj1" fmla="val 50000"/>
              <a:gd name="adj2" fmla="val 106516"/>
            </a:avLst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random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3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3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0"/>
                            </p:stCondLst>
                            <p:childTnLst>
                              <p:par>
                                <p:cTn id="1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7000"/>
                            </p:stCondLst>
                            <p:childTnLst>
                              <p:par>
                                <p:cTn id="1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50920" y="549360"/>
            <a:ext cx="864216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C’est fini 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random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2" presetSubtype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16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3" dur="1" fill="hold"/>
                                  <p:tgtEl>
                                    <p:spTgt spid="6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3:00:29Z</dcterms:created>
  <dc:creator>user</dc:creator>
  <dc:description/>
  <dc:language>en-US</dc:language>
  <cp:lastModifiedBy>user</cp:lastModifiedBy>
  <dcterms:modified xsi:type="dcterms:W3CDTF">2008-06-18T13:12:04Z</dcterms:modified>
  <cp:revision>17</cp:revision>
  <dc:subject/>
  <dc:title>Diapositive 1</dc:title>
</cp:coreProperties>
</file>